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et.edu/ete/modules/msese/earthsysflr/rock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ahoma"/>
              </a:rPr>
              <a:t>Rock Cycle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gneous Ro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ed when magma c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heated under pres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omes metamorphic r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elted again to form new mag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ve the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eathered and ero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omes sedimentary r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dimentary Ro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ed when sediments compact &amp; cement into lay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heated under pressure to form metamorphic r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ve the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eathered again to form more new sedi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tamorphic Ro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ed when rock changes under heat &amp; press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melt to form mag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ve the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eather &amp; erode to form sedi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248520" cy="556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47920" y="6095880"/>
            <a:ext cx="624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et.edu/ete/modules/msese/earthsysflr/rock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0:59:51Z</dcterms:created>
  <dc:creator>User</dc:creator>
  <dc:description/>
  <dc:language>en-US</dc:language>
  <cp:lastModifiedBy>CAC</cp:lastModifiedBy>
  <dcterms:modified xsi:type="dcterms:W3CDTF">2008-10-23T10:48:13Z</dcterms:modified>
  <cp:revision>7</cp:revision>
  <dc:subject/>
  <dc:title>Rock Cycle</dc:title>
</cp:coreProperties>
</file>